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216-F6A2-497A-AF61-CB103D3E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AC9-CA5F-40B6-BC4D-F816D2E6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798E-694F-4973-879C-3D0924A1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B36-0785-47FC-B866-BD6B986A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D7F8-3297-46AD-A8E1-15BDDB15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6DC-9414-4C6C-B671-DE310957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DBA-F004-46B7-A077-A3858B75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D277-2C0E-4080-8291-36F04BFB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8E4-F97A-485F-AEFD-AE532BEB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E73-4E50-480B-8B33-78AFE2D8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618-E149-4F58-9598-336C1D73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82F-7492-419C-B941-771A660A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6638-D9BE-4B7D-A732-54EBB2DA066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ETODOLOGIA  PARA QUEM QUER APRENDER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GRUPO: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71720" y="1999800"/>
            <a:ext cx="7215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ARTE DE ESTUDAR IMPLICA EM: CRIATIV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DISCIPL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APRENDIZAGEM SIGNIFICAT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E CONTEXTUALIZ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OMOS PRODUTOS DA ARTE DA NATUREZ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OMOS NÓS MESMOS, MAS PRECISAMOS DE AJUDA PARA APRENDER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SUBIR CADA DEGRAU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OMOS SEUS ARTIS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m 3" descr="http://www.sciam.com.br/noticias/img/cientistas_investigam_a_natureza_humana_e_descobrem_que_somos_bons_afinal_1__2012-11-22191023.jpg"/>
          <p:cNvPicPr/>
          <p:nvPr/>
        </p:nvPicPr>
        <p:blipFill>
          <a:blip r:embed="rId1"/>
          <a:stretch/>
        </p:blipFill>
        <p:spPr>
          <a:xfrm>
            <a:off x="1857240" y="2786040"/>
            <a:ext cx="19432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STUDAR COMO ARTE NÃO É PRENDER-SE NO EXEMPLO DO PASS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PENAS EM SILÊN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OB PRESS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ORÁRIO MARC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ACRÍFIC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m 3" descr="https://encrypted-tbn0.google.com/images?q=tbn:ANd9GcQytn-5YRWc-I_NIc4fk3K8EFvp_7eRj2-EXDxnqWxVXl6q4Yv2"/>
          <p:cNvPicPr/>
          <p:nvPr/>
        </p:nvPicPr>
        <p:blipFill>
          <a:blip r:embed="rId1"/>
          <a:stretch/>
        </p:blipFill>
        <p:spPr>
          <a:xfrm>
            <a:off x="5214960" y="1143000"/>
            <a:ext cx="2286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STUDAR COMO ARTE 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AZEROSO-  computador transforma a lição de casa em algo mais prazeroso ou, no mínimo, menos sofri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INÂMICO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INTERA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m 3" descr="http://ntexanxereproinfo.pbworks.com/f/baby%5b1%5d.jpg"/>
          <p:cNvPicPr/>
          <p:nvPr/>
        </p:nvPicPr>
        <p:blipFill>
          <a:blip r:embed="rId1"/>
          <a:stretch/>
        </p:blipFill>
        <p:spPr>
          <a:xfrm>
            <a:off x="3214800" y="4429080"/>
            <a:ext cx="2466720" cy="1800360"/>
          </a:xfrm>
          <a:prstGeom prst="rect">
            <a:avLst/>
          </a:prstGeom>
          <a:ln w="0">
            <a:noFill/>
          </a:ln>
        </p:spPr>
      </p:pic>
      <p:pic>
        <p:nvPicPr>
          <p:cNvPr id="49" name="Imagem 6" descr="http://image.slidesharecdn.com/palestra1workshopderadiologia-131130064303-phpapp02/95/como-se-preparar-para-concurso-de-radiologia-45-638.jpg?cb=1385815561"/>
          <p:cNvPicPr/>
          <p:nvPr/>
        </p:nvPicPr>
        <p:blipFill>
          <a:blip r:embed="rId2"/>
          <a:stretch/>
        </p:blipFill>
        <p:spPr>
          <a:xfrm>
            <a:off x="5143680" y="2500200"/>
            <a:ext cx="25048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SPONTÂN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NTEXTUALIZ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magem 4" descr="Estudos e tecnologia combinam!"/>
          <p:cNvPicPr/>
          <p:nvPr/>
        </p:nvPicPr>
        <p:blipFill>
          <a:blip r:embed="rId1"/>
          <a:stretch/>
        </p:blipFill>
        <p:spPr>
          <a:xfrm>
            <a:off x="3429000" y="2581200"/>
            <a:ext cx="22860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23:58:27Z</dcterms:created>
  <dc:creator>Julia</dc:creator>
  <dc:description/>
  <dc:language>en-US</dc:language>
  <cp:lastModifiedBy>Julia</cp:lastModifiedBy>
  <dcterms:modified xsi:type="dcterms:W3CDTF">2015-03-29T01:13:21Z</dcterms:modified>
  <cp:revision>8</cp:revision>
  <dc:subject/>
  <dc:title>METODOLOGIA  PARA QUEM QUER APRENDER GRUPO: 4</dc:title>
</cp:coreProperties>
</file>